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jpeg" ContentType="image/jpeg"/>
  <Override PartName="/ppt/media/image19.jpeg" ContentType="image/jpeg"/>
  <Override PartName="/ppt/media/image25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5.png" ContentType="image/png"/>
  <Override PartName="/ppt/media/image8.jpeg" ContentType="image/jpeg"/>
  <Override PartName="/ppt/media/image29.jpeg" ContentType="image/jpeg"/>
  <Override PartName="/ppt/media/image35.jpeg" ContentType="image/jpeg"/>
  <Override PartName="/ppt/media/image10.png" ContentType="image/png"/>
  <Override PartName="/ppt/media/image13.png" ContentType="image/png"/>
  <Override PartName="/ppt/media/image37.jpeg" ContentType="image/jpeg"/>
  <Override PartName="/ppt/media/image9.png" ContentType="image/png"/>
  <Override PartName="/ppt/media/image30.jpeg" ContentType="image/jpeg"/>
  <Override PartName="/ppt/media/image6.jpeg" ContentType="image/jpeg"/>
  <Override PartName="/ppt/media/image18.png" ContentType="image/png"/>
  <Override PartName="/ppt/media/image28.png" ContentType="image/png"/>
  <Override PartName="/ppt/media/image7.jpeg" ContentType="image/jpeg"/>
  <Override PartName="/ppt/media/image20.jpeg" ContentType="image/jpeg"/>
  <Override PartName="/ppt/media/image12.png" ContentType="image/png"/>
  <Override PartName="/ppt/media/image31.jpeg" ContentType="image/jpeg"/>
  <Override PartName="/ppt/media/image2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9A4DA-3FFC-455A-AD6F-B657BDBD0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8ED52-CC19-4F2F-922D-E2F3CCF25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C1A92-9CEB-490B-814E-1E2C83985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6E65E-D5EF-459E-AEC4-8E159B0BE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F6BF5-3BFD-4E41-B27D-E9E221D06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113BA-E612-4710-990C-59B4D95AB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0ECC2-6A0E-472F-A93F-B32CA491C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1371D-0630-40A5-9B49-8629B4106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EBFAC-91B8-453C-99D3-4EB2CF9EA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4EC2D-759E-4251-B175-CF6163437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E6A90-1D8D-4857-9B7A-ECA1E122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A2C53-7410-4A73-8E7C-1D15C6E5A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920ED-D2A0-4CED-9EC0-585D7E42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85D8E-3D76-4BCF-AC6F-092E412D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C69E9-8F57-44F7-BAE5-46F3CF86A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2548E-5CB3-4B9B-8D25-4AC2B4F51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39D7E-B297-40F5-9DBB-2BB6D1543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23A7B-0BAA-4817-8C17-67D0E38A9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46266-4CEE-45CC-8DFD-3514E5EDA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7131F-3051-46A8-A0A9-FCB716EAB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05656-5726-44CA-992C-A4901433E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9CD8E-4703-47E3-B887-1AA939A9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E0426-1791-4196-A436-371337D8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36C6F-6BDD-4D0C-BCDC-EF485E9D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8D6E4-FF28-43D8-B050-BE1DB4437A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23CAF-DBEA-48BE-AFF6-8B50AA809A2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hyperlink" Target="http://images.google.com/imgres?imgurl=http://www.evamaurproducts.com.au/Portals/4/images/sliderite1.jpg&amp;imgrefurl=http://www.evamaurproducts.com.au/Products/Sliderite/tabid/318/Default.aspx&amp;h=231&amp;w=300&amp;sz=17&amp;hl=en&amp;start=9&amp;tbnid=QxEzCkxwhqu7wM:&amp;tbnh=89&amp;tbnw=116&amp;prev=/images%3Fq%3Dhorizontal%2Bsliding%2Bwindow%26gbv%3D2%26hl%3Den%26sa%3DX" TargetMode="External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hyperlink" Target="http://www.doncaster-canopies.co.uk/i/bay%20window.jpg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hyperlink" Target="http://images.google.com/imgres?imgurl=http://www.m8electric.com/picts/outlet_troubleshoot.jpg&amp;imgrefurl=http://www.m8electric.com/services_provided_by_twin_cities_electricians.htm&amp;h=768&amp;w=1024&amp;sz=34&amp;hl=en&amp;start=2&amp;tbnid=-eKwnHxMvdiJ6M:&amp;tbnh=113&amp;tbnw=150&amp;prev=/images%3Fq%3Doutlet%26gbv%3D2%26hl%3Den" TargetMode="External"/><Relationship Id="rId8" Type="http://schemas.openxmlformats.org/officeDocument/2006/relationships/image" Target="../media/image19.jpeg"/><Relationship Id="rId9" Type="http://schemas.openxmlformats.org/officeDocument/2006/relationships/hyperlink" Target="http://regmedia.co.uk/2006/08/14/sparkfun_rotary_phone_1.jpg" TargetMode="External"/><Relationship Id="rId10" Type="http://schemas.openxmlformats.org/officeDocument/2006/relationships/image" Target="../media/image20.jpeg"/><Relationship Id="rId11" Type="http://schemas.openxmlformats.org/officeDocument/2006/relationships/hyperlink" Target="http://images.google.com/imgres?imgurl=http://www.johnlewis.com/jl_assets/product/230231660.jpg&amp;imgrefurl=http://www.johnlewis.com/Home%2Band%2BGarden/Lighting/Lighting%2BAccessories/%2BLight%2BSwitches%2B/2115/ProductType.aspx&amp;h=298&amp;w=298&amp;sz=11&amp;hl=en&amp;start=5&amp;tbnid=UCwBYIfmXHuL0M:&amp;tbnh=116&amp;tbnw=116&amp;prev=/images%3Fq%3Dlight%2Bswitch%26gbv%3D2%26hl%3Den%26sa%3DX" TargetMode="External"/><Relationship Id="rId12" Type="http://schemas.openxmlformats.org/officeDocument/2006/relationships/image" Target="../media/image21.jpeg"/><Relationship Id="rId1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image" Target="../media/image36.pn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7.06 Architectural Symbols</a:t>
            </a:r>
            <a:br>
              <a:rPr sz="4800"/>
            </a:b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Lois Webber WSFCPS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tructural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ndow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uble Hung/ Regu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4267080" y="4114800"/>
            <a:ext cx="4343400" cy="213660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3"/>
          <a:stretch/>
        </p:blipFill>
        <p:spPr>
          <a:xfrm>
            <a:off x="6629400" y="304920"/>
            <a:ext cx="2149560" cy="300996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4"/>
          <a:stretch/>
        </p:blipFill>
        <p:spPr>
          <a:xfrm>
            <a:off x="228600" y="3429000"/>
            <a:ext cx="3295800" cy="322884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038480" y="1676520"/>
            <a:ext cx="182592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More Windows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a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2"/>
          <a:stretch/>
        </p:blipFill>
        <p:spPr>
          <a:xfrm>
            <a:off x="4572000" y="2057400"/>
            <a:ext cx="2743200" cy="1486080"/>
          </a:xfrm>
          <a:prstGeom prst="rect">
            <a:avLst/>
          </a:prstGeom>
          <a:ln w="0">
            <a:noFill/>
          </a:ln>
        </p:spPr>
      </p:pic>
      <p:pic>
        <p:nvPicPr>
          <p:cNvPr id="52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080" y="3429000"/>
            <a:ext cx="314352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304920" y="99072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o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er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2"/>
          <a:stretch/>
        </p:blipFill>
        <p:spPr>
          <a:xfrm>
            <a:off x="2819520" y="1523880"/>
            <a:ext cx="1704960" cy="144324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3"/>
          <a:stretch/>
        </p:blipFill>
        <p:spPr>
          <a:xfrm>
            <a:off x="6553080" y="4648320"/>
            <a:ext cx="1971720" cy="139680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4"/>
          <a:stretch/>
        </p:blipFill>
        <p:spPr>
          <a:xfrm>
            <a:off x="5867280" y="380880"/>
            <a:ext cx="2857680" cy="305748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5"/>
          <a:stretch/>
        </p:blipFill>
        <p:spPr>
          <a:xfrm>
            <a:off x="2819520" y="3533760"/>
            <a:ext cx="314316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lectrical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t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l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leph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4"/>
          <a:stretch/>
        </p:blipFill>
        <p:spPr>
          <a:xfrm>
            <a:off x="6019920" y="2895480"/>
            <a:ext cx="2628720" cy="198936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5"/>
          <a:stretch/>
        </p:blipFill>
        <p:spPr>
          <a:xfrm>
            <a:off x="4038480" y="5029200"/>
            <a:ext cx="1467000" cy="148608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6"/>
          <a:stretch/>
        </p:blipFill>
        <p:spPr>
          <a:xfrm>
            <a:off x="3581280" y="1905120"/>
            <a:ext cx="1524240" cy="94428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886200" y="3352680"/>
            <a:ext cx="1428840" cy="107640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172200" y="5261040"/>
            <a:ext cx="1495440" cy="127296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629400" y="1143000"/>
            <a:ext cx="15620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Fixtures/ Applianc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th tu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ilet/ Water clos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5"/>
          <a:stretch/>
        </p:blipFill>
        <p:spPr>
          <a:xfrm>
            <a:off x="3048120" y="1371600"/>
            <a:ext cx="1595160" cy="162864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6"/>
          <a:stretch/>
        </p:blipFill>
        <p:spPr>
          <a:xfrm>
            <a:off x="6934320" y="1600200"/>
            <a:ext cx="1463400" cy="166212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7"/>
          <a:stretch/>
        </p:blipFill>
        <p:spPr>
          <a:xfrm>
            <a:off x="7162920" y="3733920"/>
            <a:ext cx="1420560" cy="240984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8"/>
          <a:stretch/>
        </p:blipFill>
        <p:spPr>
          <a:xfrm>
            <a:off x="4495680" y="4800600"/>
            <a:ext cx="1382760" cy="150480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9"/>
          <a:stretch/>
        </p:blipFill>
        <p:spPr>
          <a:xfrm>
            <a:off x="5181480" y="2590920"/>
            <a:ext cx="115740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Other Symbol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2019240" cy="214308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2"/>
          <a:stretch/>
        </p:blipFill>
        <p:spPr>
          <a:xfrm>
            <a:off x="4724280" y="1371600"/>
            <a:ext cx="3733920" cy="184140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3"/>
          <a:stretch/>
        </p:blipFill>
        <p:spPr>
          <a:xfrm>
            <a:off x="304920" y="396252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4"/>
          <a:stretch/>
        </p:blipFill>
        <p:spPr>
          <a:xfrm>
            <a:off x="3200400" y="1600200"/>
            <a:ext cx="1228680" cy="163836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5"/>
          <a:stretch/>
        </p:blipFill>
        <p:spPr>
          <a:xfrm>
            <a:off x="3048120" y="3733920"/>
            <a:ext cx="3733560" cy="288288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6"/>
          <a:stretch/>
        </p:blipFill>
        <p:spPr>
          <a:xfrm>
            <a:off x="7010280" y="3429000"/>
            <a:ext cx="19335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More Symbol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5562720" cy="121428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6858000" y="533520"/>
            <a:ext cx="1981080" cy="185724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/>
          <p:cNvPicPr/>
          <p:nvPr/>
        </p:nvPicPr>
        <p:blipFill>
          <a:blip r:embed="rId3"/>
          <a:stretch/>
        </p:blipFill>
        <p:spPr>
          <a:xfrm>
            <a:off x="4267080" y="3200400"/>
            <a:ext cx="2130480" cy="3200400"/>
          </a:xfrm>
          <a:prstGeom prst="rect">
            <a:avLst/>
          </a:prstGeom>
          <a:ln w="0">
            <a:noFill/>
          </a:ln>
        </p:spPr>
      </p:pic>
      <p:pic>
        <p:nvPicPr>
          <p:cNvPr id="555" name="" descr=""/>
          <p:cNvPicPr/>
          <p:nvPr/>
        </p:nvPicPr>
        <p:blipFill>
          <a:blip r:embed="rId4"/>
          <a:stretch/>
        </p:blipFill>
        <p:spPr>
          <a:xfrm>
            <a:off x="0" y="3505320"/>
            <a:ext cx="3962520" cy="244476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5"/>
          <a:stretch/>
        </p:blipFill>
        <p:spPr>
          <a:xfrm>
            <a:off x="6934320" y="2971800"/>
            <a:ext cx="15904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28600" y="1066320"/>
            <a:ext cx="464832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(CADD): </a:t>
            </a:r>
            <a:r>
              <a:rPr b="0" lang="en-US" sz="3200" spc="-1" strike="noStrike">
                <a:solidFill>
                  <a:srgbClr val="dfdef6"/>
                </a:solidFill>
                <a:latin typeface="Arial"/>
              </a:rPr>
              <a:t>software and hardware that creates designs with a computer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10552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ant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es are easy to ma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al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istic 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walk through per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ves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80520" y="41144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advant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are complic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57200" y="304920"/>
            <a:ext cx="83818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Computer- aided design </a:t>
            </a:r>
            <a:br>
              <a:rPr sz="32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09480" y="601992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en.wikipedia.org/wiki/CA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14:02:00Z</dcterms:created>
  <dc:creator>WSFCS Workstation</dc:creator>
  <dc:description/>
  <dc:language>en-US</dc:language>
  <cp:lastModifiedBy>s.brooks</cp:lastModifiedBy>
  <dcterms:modified xsi:type="dcterms:W3CDTF">2008-04-17T15:08:46Z</dcterms:modified>
  <cp:revision>7</cp:revision>
  <dc:subject/>
  <dc:title>Architectural symbols</dc:title>
</cp:coreProperties>
</file>